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2D9-AE3D-4250-BC9D-44ED0B9D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095-1FA1-48C0-8924-532B4C08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75F-5276-47F8-9D83-D4FC0B91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FB3-BCEB-4032-855B-D2364CFF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2A52-B6D5-4521-BBDB-7A081BFF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8F7-3145-4864-BAC5-A05F6374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E6A7-E8A6-4EF4-8647-0CD26F5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9314-0A28-461B-A6E7-235929CC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410C-AEA1-478E-8578-17083893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7ED-1CCB-448F-9385-B837297D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3D21-9825-42FA-A8E1-424B816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744-52B3-42DA-B150-7E6CBA19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3646-ADB5-43E4-9362-E7786016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38A-224B-4F52-8A57-2E85951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BFAD-F92F-42F9-8EDD-2FB4D87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CE14-DB35-4659-A499-3C885544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EB73-24E5-40F2-A051-A0DD3EE0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521-DDE0-48F3-B890-98EE989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A9A-85C1-45D6-B6AA-FE8100A7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299-FE5E-448A-92C5-04DAEC41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6BB-86C0-4007-B81D-4DC8ED9B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A42-7136-40B3-99EA-92A62A6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A8A-4001-493E-B73A-48AA0E48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ED8-3F1F-4760-BBAC-BA9AFE9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53B-9E2B-4A74-958B-ED9550CB3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6680-56E7-4338-A0E5-E30DB46A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bs.org/wgbh/amex/weshallremain/the_films/episode_4_trailer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c44"/>
                </a:solidFill>
                <a:latin typeface="Arial"/>
              </a:rPr>
              <a:t>How do oppressed people survive?: Native American Indian Assimilation and Resistance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Joshua Fisher and Shoshana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F:\Portland State University\Fall 2009, Certificate Public Management\PA 511, Public Management\Green Paper, Indian Affairs\Western_Indian_Wars.jpg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Chart 6"/>
          <p:cNvGraphicFramePr/>
          <p:nvPr/>
        </p:nvGraphicFramePr>
        <p:xfrm>
          <a:off x="0" y="3124080"/>
          <a:ext cx="350532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Char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124080"/>
                    <a:ext cx="35053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Questions to think about: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re the Apaches assimilated or exterminated? In what w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some benefits of reservation life for the Apaches? For the White sett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hallenges did the Apaches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it harder to assimilate or face extermination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BS American Experience: We Shall Remai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2"/>
              </a:rPr>
              <a:t>We Shall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cluding thought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gress shall have Power … To regulate Commerce with foreign Nations, and among the several States, and with the Indian Tribes”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.S. Constitution: Article I, section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ost mention Indian Tribes get in the U.S. Co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the government overstep its bounds by creating reserv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ways did the reservation system (which served to both assimilate and exterminate Native peoples) reflect economic interests of the ti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7:39:15Z</dcterms:created>
  <dc:creator>Shoshana McClellan</dc:creator>
  <dc:description/>
  <dc:language>en-US</dc:language>
  <cp:lastModifiedBy>Shoshana McClellan</cp:lastModifiedBy>
  <dcterms:modified xsi:type="dcterms:W3CDTF">2011-08-18T05:17:09Z</dcterms:modified>
  <cp:revision>10</cp:revision>
  <dc:subject/>
  <dc:title>Native American Indian Assimilation</dc:title>
</cp:coreProperties>
</file>